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DCE-4D9C-4DDA-855B-6E42F692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E8F-83B5-4F0B-B479-E11844B5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27D-703F-47E7-B2C3-D6DE6C47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FAC-4903-49B4-BC41-4B116C68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11B-3DDF-4FD0-BC82-2F4D0C0D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4F6-8815-41F4-8CE9-893DEB32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E99-3FC0-4CBE-B8CD-BBFC4CF2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C5A-F580-4A17-BB61-2827ABC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12B-A357-41F6-88B6-327E2011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C88-8B19-4205-81AF-E54519C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BC9-67C7-48D6-AB3B-7E12F2F7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622-2B24-41DD-87D7-B43005C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/05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Q Mobile               Confiden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Ralf Schol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3A23-BC1F-47C5-88E3-48092C8C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&amp;D Mgmt Workshop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nich, 28. – 30. Ma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. Bocionek, YC Lee, R. Scho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. Bocionek, YC Lee, K. Wi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irect reports of SB and Y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eputies and liaisons of the direct reports with global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bjectives of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R&amp;D Manage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develop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y possibilities of best practi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vision and mission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goals and targets how to achieve synergies across all R&amp;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ulate the „principles of operations“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arn to know each other and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in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ach manager who represents an organ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overview about people in the respective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description of the workflow and processes (working modell, measures, input, output,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s and projects currently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hievements since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1052640"/>
          <a:ext cx="8207280" cy="3919320"/>
        </p:xfrm>
        <a:graphic>
          <a:graphicData uri="http://schemas.openxmlformats.org/drawingml/2006/table">
            <a:tbl>
              <a:tblPr/>
              <a:tblGrid>
                <a:gridCol w="2087280"/>
                <a:gridCol w="612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35120" y="4940280"/>
            <a:ext cx="808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agenda R&amp;D-management-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gram (first dra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1520" y="907920"/>
            <a:ext cx="40388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nday, May 28th, 17:00 – 22: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T TOGETHER, D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le is reseverved at 18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fbräukeller, Haidhausen Innere Wiener Str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40384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O WE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his/her deputy explain their organization, projects, current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deputy formulates the expectations on the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219560"/>
            <a:ext cx="4038480" cy="20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AT WE WANT TO ACH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vision and mission for 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strateg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„synergy pla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joint KPI‘s (only in addition to what we have; no change to old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nner at 19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907920"/>
            <a:ext cx="4248360" cy="30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WE WANT TO WORK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roles and responsi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chang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worksplit between RD centers and their satel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meeting, communication and review sche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best practice shar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4005360"/>
            <a:ext cx="4248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EN WE WILL DO W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work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itt to goals and tim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next concrete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re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ocations and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tel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otel, Hochstraß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irport Pick-up and Trans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m Airport to Novotel – plea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8, station: Rosenheimer 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 54 or 100 from Ost-Bahnhof to Haidenau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ful contacts and phon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ista Drescher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: +49 89 4111 4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ell: +49 178 7701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Q headquarter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idenauplatz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shop rooms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ferenzzone: 11.E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ünchen (B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nc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les will be reserved in the ca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nner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ning will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2:59:59Z</dcterms:created>
  <dc:creator>Siegfried Bocionek</dc:creator>
  <dc:description/>
  <dc:language>en-US</dc:language>
  <cp:lastModifiedBy>ScholzR</cp:lastModifiedBy>
  <dcterms:modified xsi:type="dcterms:W3CDTF">2006-05-22T10:24:21Z</dcterms:modified>
  <cp:revision>11</cp:revision>
  <dc:subject/>
  <dc:title>R&amp;D Mgmt Workshop Munich, 28. – 30. May 2006</dc:title>
</cp:coreProperties>
</file>